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lick.wav" ContentType="audio/x-wav"/>
  <Override PartName="/ppt/media/image2.jpeg" ContentType="image/jpeg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D08-25F8-48B0-930A-800EC00C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41C-2378-4E5C-954A-27C0754B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6A9-7A59-4341-BD47-8441C1C5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AE9-6A85-4618-A2C6-F44D9BDC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1A0-C5EC-4B33-837D-B0843A68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FBF-CB10-4866-B8A1-69F9B36F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3E2-68C7-4A82-B85D-5E6ABB63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506-3A08-49BD-BBC6-8B17407D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3BF-A794-41D3-8DC3-272D747B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640-A50A-4C03-AA44-2AC5AA39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EAC-EDFF-413E-B49B-6ED85766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C48-FED3-4037-9247-633A0AF0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31D6-2AA0-497E-A30F-2226169B4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ats and 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By S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he cat is much smarter then a dog. Cat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Fuzz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720" y="483480"/>
            <a:ext cx="3886200" cy="6373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ats and 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552680"/>
            <a:ext cx="9144000" cy="5305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5720" y="4173480"/>
            <a:ext cx="1440000" cy="171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he wolve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ecadence of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47800" y="1600200"/>
            <a:ext cx="1457280" cy="218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4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47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43Z</dcterms:modified>
  <cp:revision>9</cp:revision>
  <dc:subject/>
  <dc:title>Pets</dc:title>
</cp:coreProperties>
</file>